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7169-4ED0-4744-B10D-6CABC5D6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71B1-8151-4716-8D0C-386EA77D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6AE-13B0-483E-88C1-E6696CA5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5857-E334-44D2-A44C-EA08EB1A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C714-F16E-47A3-9293-4A24B27D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983A-1133-4EFB-B49C-3F472C82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7A38-AACA-4857-99EB-1EA95681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4551-EC74-4BFF-8E30-1B548215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EB6C-93AE-4896-9A5F-D0C5F20B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691E-38E6-4D85-A434-F3912629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06DA-9187-4166-95C0-C738F12C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7A7-7380-41BE-935B-876C27DC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356A-4A74-4EFB-BA3A-285E19D5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9AE4-EF2D-4949-8348-B1974AD3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E175-8EAC-4B59-B0D6-FC411937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2B98-7B36-4178-B618-1624072C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F96F-56BD-4813-9966-BA8221D8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3A6-7B8D-441F-B2D9-DB56335E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7B2A-A627-49D6-9A13-4B0BFAF1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032-AEFF-4213-A0AD-0E73BB77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F595-CE19-4675-9395-C05A824B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AD2-FA61-46D8-8B96-6B3876D6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3A4-72A7-4F01-B5BB-4147EF66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9F8-B368-42E2-A146-E1F2902C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8385-E775-45D1-95E0-DA8ED1982A6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6B97-897D-4F18-ACEB-534048FCCAD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Dimensional Analysis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ll Lucke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aufort Academ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Practice 1 (Answers)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0" y="13716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l = 1 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gal = 3.8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= 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152388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.      2.9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= __?__ 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32767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.      9.9 in = __?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27432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km = 0.61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 = 528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ft = 12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 = 39.3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in = 2.5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5029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.      8.1 s = __?__ 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487692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day = 24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yr = 365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hr = 60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n = 6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hr = 360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25146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209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9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9810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Verdana"/>
              </a:rPr>
              <a:t>? g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2514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2209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812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371600" y="21337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514240" y="2590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8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2133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22096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760 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434340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60199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5486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39625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.9 in     1 m         1 km      = 2.5 x 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-4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43434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9.3 in    1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666520" y="22096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580920" y="25146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2133720"/>
            <a:ext cx="6098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3733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371600" y="39625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590920" y="4343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285640" y="3962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885840" y="4419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88620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56386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.1 s     1 hr     1 day    1 yr   =  2.6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60199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600 s   24 hr   365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5486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5486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599840" y="56386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742840" y="60958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504960" y="6019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437920" y="56386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571640" y="6019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52320" y="5638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14800" y="5638680"/>
            <a:ext cx="4572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3657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Verdana"/>
              </a:rPr>
              <a:t>?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54100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Verdana"/>
              </a:rPr>
              <a:t>? y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Practice 2 (Answers)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600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.     33 mph = __?__ c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10280" y="1371600"/>
            <a:ext cx="243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km = 0.61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 = 528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ft = 12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 = 39.3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in = 2.5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304812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day = 24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yr = 365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hr = 60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n = 6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hr = 360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3352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.     $2.55/gal = __?__ Eu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86600" y="48769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l = 1 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gal = 3.8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= 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105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.     1.5 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/s = __?__ gal/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34320" y="6248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Eu = $1.18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25909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441972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609588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22096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3 mi  5280 ft  12 in   2.54 cm  1 hr  = 1.5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5909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hr    1 mi      1 ft      1 in      360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3848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62120" y="22096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599840" y="259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828440" y="2209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514240" y="259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590560" y="2209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352320" y="259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259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2209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22860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8320" y="266688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9810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Verdana"/>
              </a:rPr>
              <a:t>? cm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40384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55 dol      1 Eu      1 gal    = 0.569 Eu/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3733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Verdana"/>
              </a:rPr>
              <a:t>? Eu/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44197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gal      1.18 dol     3.8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5715000"/>
            <a:ext cx="67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.5 c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1 ml     1 L        1 gal   3600 s  24 hr = 34 gal/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60958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 s      1 c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1000 ml  3.8 L   1 hr     1 da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2640" y="548640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? Gal/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5638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5638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71800" y="5638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33920" y="5638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5638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219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3623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44197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52680" y="40384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09680" y="4038480"/>
            <a:ext cx="4572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05320" y="4419720"/>
            <a:ext cx="3045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00400" y="57150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24280" y="6095880"/>
            <a:ext cx="4572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762120" y="5715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600200" y="6172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523520" y="5715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666520" y="6095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60958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43400" y="57150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362320" y="57150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428640" y="6172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62520" y="60958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76920" y="56386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HOMEWORK: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ndout – do all problems on Dimensional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Purpose 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mensional Analysis, also known as “Factor Labeling”, is a systematic method used for the conversion of units, typically from metric to non-metric or vice-vers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e: if you wanted to know how many inches are in 3.3 km, you would use dimensional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e: this conversion </a:t>
            </a: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seem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important, but the METHOD is important and will be </a:t>
            </a:r>
            <a:r>
              <a:rPr b="0" lang="en-US" sz="2800" spc="-1" strike="noStrike">
                <a:solidFill>
                  <a:srgbClr val="6600ff"/>
                </a:solidFill>
                <a:latin typeface="Verdana"/>
              </a:rPr>
              <a:t>vi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your existence as a Chemistry or Physics stud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Table of Common Conversion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1523880"/>
            <a:ext cx="4572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km = 0.61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 = 528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ft = 12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 = 39.3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in = 2.5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4495680"/>
            <a:ext cx="2895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l = 1 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gal = 3.8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= 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6002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oz = 28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78680" y="3124080"/>
            <a:ext cx="172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day = 24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yr = 365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hr = 60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n = 6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hr = 360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5146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Verdana"/>
              </a:rPr>
              <a:t>Memorize    The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62485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Note: You should know all metric to metric conversi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6172200"/>
            <a:ext cx="7543800" cy="457200"/>
          </a:xfrm>
          <a:prstGeom prst="rect">
            <a:avLst/>
          </a:prstGeom>
          <a:solidFill>
            <a:srgbClr val="00cc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2438280"/>
            <a:ext cx="2819160" cy="1219320"/>
          </a:xfrm>
          <a:prstGeom prst="ellipse">
            <a:avLst/>
          </a:prstGeom>
          <a:gradFill rotWithShape="0">
            <a:gsLst>
              <a:gs pos="0">
                <a:srgbClr val="6600ff">
                  <a:alpha val="32156"/>
                </a:srgbClr>
              </a:gs>
              <a:gs pos="100000">
                <a:srgbClr val="2f0075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Mathematical Basi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’s take our example, 3.3 km = __?_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happens if we multiply 3.3 km by 1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 these represent?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/12;   5280/5280;   3.14/3.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 these represen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 in / 1 foot;   5280 ft / 1 m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2666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Verdana"/>
              </a:rPr>
              <a:t>We are not changing the meaning of the value 3.3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1148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Verdana"/>
              </a:rPr>
              <a:t>They all represent the numb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7913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Verdana"/>
              </a:rPr>
              <a:t>These all represent the number “1” since the numerator equals the denominator in meaning (not in number or u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onversions as Fraction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w we know we can take our conversions and make fractions out of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e:  </a:t>
            </a: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1 km = 0.6 m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n be written 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403848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6633"/>
                </a:solidFill>
                <a:uFillTx/>
                <a:latin typeface="Verdana"/>
              </a:rPr>
              <a:t>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Verdana"/>
              </a:rPr>
              <a:t>0.6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114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r a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403848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6633"/>
                </a:solidFill>
                <a:uFillTx/>
                <a:latin typeface="Verdana"/>
              </a:rPr>
              <a:t>0.6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Verdana"/>
              </a:rPr>
              <a:t>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New Conversion Tables - Length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51460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528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52388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0.6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251460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1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28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152388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.6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hown in 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350532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1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2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350532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12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464832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1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9.3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464832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39.3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57150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1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5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571500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2.5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2971800"/>
            <a:ext cx="3124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ff"/>
                </a:solidFill>
                <a:latin typeface="Verdana"/>
              </a:rPr>
              <a:t>More than just adv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ff"/>
                </a:solidFill>
                <a:latin typeface="Verdana"/>
              </a:rPr>
              <a:t>Start thinking of the entire table on slide 3 in this man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2590920"/>
            <a:ext cx="3429000" cy="2133360"/>
          </a:xfrm>
          <a:prstGeom prst="rect">
            <a:avLst/>
          </a:prstGeom>
          <a:solidFill>
            <a:srgbClr val="00cc00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Let’s Factor Label to Convert!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1523880"/>
            <a:ext cx="24382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km = 0.61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 = 528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ft = 12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 = 39.3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in = 2.5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Verdana"/>
              </a:rPr>
              <a:t>3.3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733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raw a long horizontal line (indicating the divide b/w numerator and denomin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4800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Step 4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raw vertical line(s) to separate portions of the 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51055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Step 5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Write the conversion factor WHICH CANCELS OUT the unit currently in the numerator. Start with the DENOMINATOR, and plan out your conversion strategy (ie: km to mi; mi to ft, ft to 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152388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Verdana"/>
              </a:rPr>
              <a:t>3.3 km = __?__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9810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t’s copy our length conversions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24382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py the g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4197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Step 3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int the unit you’re solving for above the g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?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3352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2971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.6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3352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28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743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3352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205740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00ff"/>
                </a:solidFill>
                <a:latin typeface="Verdana"/>
              </a:rPr>
              <a:t>STOP when the unit you want is in the numerato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990360" y="28954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904760" y="33526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133360" y="28954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971800" y="33526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190760" y="335268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276360" y="28954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2895480"/>
            <a:ext cx="6858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60958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Step 6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Stop, Drop, and Calcul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30481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= 1.3 x 10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396252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Verdana"/>
              </a:rPr>
              <a:t>Note: sig figs should equal that found in </a:t>
            </a:r>
            <a:r>
              <a:rPr b="1" i="1" lang="en-US" sz="1400" spc="-1" strike="noStrike">
                <a:solidFill>
                  <a:srgbClr val="cc3300"/>
                </a:solidFill>
                <a:latin typeface="Verdana"/>
              </a:rPr>
              <a:t>giv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52880" y="2971800"/>
            <a:ext cx="1905120" cy="457200"/>
          </a:xfrm>
          <a:prstGeom prst="rect">
            <a:avLst/>
          </a:prstGeom>
          <a:gradFill rotWithShape="0">
            <a:gsLst>
              <a:gs pos="0">
                <a:srgbClr val="00cc00">
                  <a:alpha val="21176"/>
                </a:srgbClr>
              </a:gs>
              <a:gs pos="100000">
                <a:srgbClr val="005e00">
                  <a:alpha val="2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Practice 1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13716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l = 1 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gal = 3.8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= 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52388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.      2.9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= __?__ 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32767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.      9.9 in = __?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27432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km = 0.61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 = 528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ft = 12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 = 39.3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in = 2.5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5029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.      8.1 s = __?__ 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77120" y="4876920"/>
            <a:ext cx="236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day = 24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yr = 365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hr = 60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n = 6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hr = 360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Practice 2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600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.     33 mph = __?__ c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1371600"/>
            <a:ext cx="24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km = 0.61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 = 528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ft = 12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 = 39.3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in = 2.5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3048120"/>
            <a:ext cx="236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day = 24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yr = 365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hr = 60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n = 6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hr = 360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3352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.     $2.55/gal = __?__ Eu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48006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l = 1 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gal = 3.8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= 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5105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.     1.5 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/s = __?__ gal/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77120" y="6248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Eu = $1.18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03:30:47Z</dcterms:created>
  <dc:creator>marti andreski</dc:creator>
  <dc:description/>
  <dc:language>en-US</dc:language>
  <cp:lastModifiedBy>jluckey</cp:lastModifiedBy>
  <dcterms:modified xsi:type="dcterms:W3CDTF">2009-08-25T16:50:39Z</dcterms:modified>
  <cp:revision>58</cp:revision>
  <dc:subject/>
  <dc:title>Math, Measurement &amp; Metrics</dc:title>
</cp:coreProperties>
</file>